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60524-1E72-4930-B700-A3443B081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DBEA8-752F-4201-96A2-728EE5B85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69C1-E929-4B69-AE35-16B890F7E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8B58C-5C41-4040-98F0-32A5C5B83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8FCCD-4224-4B10-865C-60CB0D977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9F303-21F8-42AD-BF97-A65A4DD72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F6B24-5DFB-4FD6-BCF6-B0F3E8EB1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F23F-77D6-4400-9AB7-27A10A023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C87C1-ABC5-4C98-9C8E-4ED390A25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F7FBC-0BB2-47E7-8E7D-A54B5C331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56C0-AB02-46D7-A2C1-5DC2FBF11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CF69-AC5D-4A61-9211-4C6DF5785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9787-0477-4628-A43E-82B01B997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recht.nrw.de/lmi/owa/br_bes_text?anw_nr=2&amp;gld_nr=2&amp;ugl_nr=223&amp;bes_id=7345&amp;aufgehoben=N&amp;menu=1&amp;sg=" TargetMode="External"/><Relationship Id="rId2" Type="http://schemas.openxmlformats.org/officeDocument/2006/relationships/hyperlink" Target="https://recht.nrw.de/lmi/owa/br_bes_text?anw_nr=2&amp;gld_nr=2&amp;ugl_nr=223&amp;bes_id=7345&amp;aufgehoben=N&amp;menu=1&amp;s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recht.nrw.de/lmi/owa/br_bes_text?anw_nr=2&amp;gld_nr=2&amp;ugl_nr=223&amp;bes_id=7345&amp;aufgehoben=N&amp;menu=1&amp;sg=" TargetMode="External"/><Relationship Id="rId2" Type="http://schemas.openxmlformats.org/officeDocument/2006/relationships/hyperlink" Target="https://recht.nrw.de/lmi/owa/br_bes_text?anw_nr=2&amp;gld_nr=2&amp;ugl_nr=223&amp;bes_id=7345&amp;aufgehoben=N&amp;menu=1&amp;s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recht.nrw.de/lmi/owa/br_bes_text?anw_nr=2&amp;gld_nr=2&amp;ugl_nr=223&amp;bes_id=7345&amp;aufgehoben=N&amp;menu=1&amp;sg=" TargetMode="External"/><Relationship Id="rId2" Type="http://schemas.openxmlformats.org/officeDocument/2006/relationships/hyperlink" Target="https://recht.nrw.de/lmi/owa/br_bes_text?anw_nr=2&amp;gld_nr=2&amp;ugl_nr=223&amp;bes_id=7345&amp;aufgehoben=N&amp;menu=1&amp;sg=" TargetMode="External"/><Relationship Id="rId3" Type="http://schemas.openxmlformats.org/officeDocument/2006/relationships/hyperlink" Target="https://recht.nrw.de/lmi/owa/br_bes_text?anw_nr=2&amp;gld_nr=2&amp;ugl_nr=223&amp;bes_id=7345&amp;aufgehoben=N&amp;menu=1&amp;sg="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nfo-qs-wiki.qualitaetsmanagement-schule.de/images/6/63/Schulversaeumnis.pdf" TargetMode="External"/><Relationship Id="rId2" Type="http://schemas.openxmlformats.org/officeDocument/2006/relationships/hyperlink" Target="http://info-qs-wiki.qualitaetsmanagement-schule.de/images/6/63/Schulversaeumnis.pdf"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Schulpflicht</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urlaubung/ Befreiu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Schulleiterin oder der Schulleiter kann Schülerinnen und Schüler auf Antrag der Eltern aus wichtigem Grund </a:t>
            </a:r>
            <a:r>
              <a:rPr b="0" lang="en-US" sz="3200" spc="-1" strike="noStrike" u="sng">
                <a:solidFill>
                  <a:srgbClr val="000000"/>
                </a:solidFill>
                <a:uFillTx/>
                <a:latin typeface="Arial"/>
              </a:rPr>
              <a:t>bis zur Dauer eines Schuljahres</a:t>
            </a:r>
            <a:r>
              <a:rPr b="0" lang="en-US" sz="3200" spc="-1" strike="noStrike">
                <a:solidFill>
                  <a:srgbClr val="000000"/>
                </a:solidFill>
                <a:latin typeface="Arial"/>
              </a:rPr>
              <a:t> vom Unterricht beurlauben oder von der Teilnahme an einzelnen Unterrichts- oder Schulveranstaltungen befreie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urlaubung/ Befreiung</a:t>
            </a:r>
            <a:endParaRPr b="0" lang="en-US" sz="2400" spc="-1" strike="noStrike">
              <a:solidFill>
                <a:srgbClr val="000000"/>
              </a:solidFill>
              <a:latin typeface="Arial"/>
            </a:endParaRPr>
          </a:p>
        </p:txBody>
      </p:sp>
      <p:sp>
        <p:nvSpPr>
          <p:cNvPr id="6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chtige Gründ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persönliche Anlässe</a:t>
            </a:r>
            <a:r>
              <a:rPr b="0" lang="de-DE" sz="1800" spc="-1" strike="noStrike">
                <a:solidFill>
                  <a:srgbClr val="000000"/>
                </a:solidFill>
                <a:latin typeface="Arial"/>
              </a:rPr>
              <a:t> (z. B. Erstkommunion und Konfirmation; Hochzeit, Jubiläen, Geburt, schwere Erkrankung und Todesfall innerhalb der Famili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Teilnahme an Veranstaltungen mit besonderer Bedeutung</a:t>
            </a:r>
            <a:r>
              <a:rPr b="0" lang="de-DE" sz="1800" spc="-1" strike="noStrike">
                <a:solidFill>
                  <a:srgbClr val="000000"/>
                </a:solidFill>
                <a:latin typeface="Arial"/>
              </a:rPr>
              <a:t> für die Schülerin oder den Schüler, z. B.: religiöse Veranstaltungen (z. B. Rüstzeiten, Exerzitien, Kirchentag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Schließung des Haushalts</a:t>
            </a:r>
            <a:r>
              <a:rPr b="0" lang="de-DE" sz="1800" spc="-1" strike="noStrike">
                <a:solidFill>
                  <a:srgbClr val="000000"/>
                </a:solidFill>
                <a:latin typeface="Arial"/>
              </a:rPr>
              <a:t>: Vorübergehende, unumgänglich erforderliche Schließung des Haushalts wegen besonderer persönlicher und wirtschaftlicher Verhältnisse der Eltern (z. B. Krankenhausaufenthalt u.a.)</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Religiöse Feiertage</a:t>
            </a:r>
            <a:r>
              <a:rPr b="0" lang="de-DE" sz="1800" spc="-1" strike="noStrike">
                <a:solidFill>
                  <a:srgbClr val="000000"/>
                </a:solidFill>
                <a:latin typeface="Arial"/>
              </a:rPr>
              <a:t>: Für die Beurlaubung wegen religiöser Feiertage ist Voraussetzung, dass sich das Gebot der Feiertagsheiligung als verbindliche Glaubensüberzeugung einer bestimmten Religionsgemeinschaft (z. B. die Sabbatheiligung für Juden und Sieben-Tage-Adventisten, Ramadan-, Beiran- und Opferfest des Islam) und die Zugehörigkeit der Schülerin oder des Schülers zu dieser Religionsgemeinschaft feststellen lassen.</a:t>
            </a: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Die Dauer der Beurlaubung richtet sich nach den Gegebenheiten des Einzelfall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urlaubung/ Befreiung</a:t>
            </a: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rag auf Beurlaubu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Beurlaubungsanträge sind möglichst eine Woche vorher schriftlich an die Klassenlehrerin oder den Klassenlehrer bzw. an die Schulleitung zu richten. (Anträge auf Beurlaubung sind immer nur durch die Schulleiterin / den Schulleiter zu genehmigen und nicht durch die Klassenlehrerin/ den Klassenlehr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chülerinnen und Schüler sowie deren Eltern sind bei der Beurlaubung darauf hinzuweisen, dass der versäumte Unterrichtsstoff nachzuholen ist. Die Schule soll die Schülerin oder den Schüler dabei unterstütz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u="sng">
                <a:solidFill>
                  <a:srgbClr val="000000"/>
                </a:solidFill>
                <a:uFillTx/>
                <a:latin typeface="Arial"/>
              </a:rPr>
              <a:t>Eine Ausnahme von dem grundsätzlichen Beurlaubungsverbot unmittelbar vor und im Anschluss an die Ferien</a:t>
            </a:r>
            <a:r>
              <a:rPr b="0" lang="de-DE" sz="2400" spc="-1" strike="noStrike">
                <a:solidFill>
                  <a:srgbClr val="000000"/>
                </a:solidFill>
                <a:latin typeface="Arial"/>
              </a:rPr>
              <a:t> ist nur bei Vorliegen eines wichtigen Grundes(Siehe Erlass) möglich und, </a:t>
            </a:r>
            <a:r>
              <a:rPr b="0" lang="de-DE" sz="2400" spc="-1" strike="noStrike" u="sng">
                <a:solidFill>
                  <a:srgbClr val="000000"/>
                </a:solidFill>
                <a:uFillTx/>
                <a:latin typeface="Arial"/>
              </a:rPr>
              <a:t>wenn nachgewiesen wird, dass die Beurlaubung nicht den Zweck hat, die Schulferien zu verlänge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sbesondere ist die Schließung des Haushaltes nicht als unumgänglich dringlich anzusehen, wenn sie nur den Zweck hat, preisgünstigere Urlaubstarife zu nutzen oder möglichen Verkehrsspitzen zu entgeh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Dringlichkeit der Beurlaubung muss besonders nachgewiesen we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urlaubung/ Befreiung</a:t>
            </a:r>
            <a:endParaRPr b="0" lang="en-US" sz="2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739800" y="485640"/>
            <a:ext cx="7665840" cy="588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urlaubung/ Befreiung</a:t>
            </a:r>
            <a:endParaRPr b="0" lang="en-US" sz="2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e Befreiung aus gesundheitlichen Gründen oder wegen sonstiger körperlicher Beeinträchtigungen kann neben dem Sportunterricht im allgemeinen nur für den fachpraktischen Unterricht in künstlerischen und praktischen Fächern in Betracht kommen, wenn die Schülerin oder der Schüler sich auch nicht teilweise am Unterricht beteiligen kan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b die befreite Schülerin oder der befreite Schüler während des Unterrichts anwesend sein muss, entscheidet die Fachlehrerin oder der Fachlehr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chulversäumni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en-US" sz="2400" spc="-1" strike="noStrike">
                <a:solidFill>
                  <a:srgbClr val="000000"/>
                </a:solidFill>
                <a:latin typeface="Arial"/>
              </a:rPr>
              <a:t> </a:t>
            </a:r>
            <a:r>
              <a:rPr b="1" lang="en-US" sz="4000" spc="-1" strike="noStrike">
                <a:solidFill>
                  <a:srgbClr val="000000"/>
                </a:solidFill>
                <a:latin typeface="Arial"/>
              </a:rPr>
              <a:t>Grundsätz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ntschuldigu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Schulversäumnis (Schaubild)</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 Beurlaubung/ Befreiung</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undsätzlic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rundsätz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ilnah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innen und Schüler sind verpflichtet, regelmäßig am Unterricht und an den sonstigen verbindlichen Schulveranstaltungen teilzunehmen. Die Meldung zur Teilnahme an einer freiwilligen Unterrichtsveranstaltung (also auch AGs und HSU Türkisch) verpflichtet zur regelmäßigen Teilnahme mindestens für -ein- Schulhalbjahr. </a:t>
            </a:r>
            <a:r>
              <a:rPr b="0" lang="de-DE" sz="2800" spc="-1" strike="noStrike" u="sng">
                <a:solidFill>
                  <a:srgbClr val="009999"/>
                </a:solidFill>
                <a:uFillTx/>
                <a:latin typeface="Arial"/>
                <a:hlinkClick r:id="rId1"/>
              </a:rPr>
              <a:t>SchulG</a:t>
            </a:r>
            <a:r>
              <a:rPr b="0" lang="de-DE" sz="2800" spc="-1" strike="noStrike" u="sng">
                <a:solidFill>
                  <a:srgbClr val="009999"/>
                </a:solidFill>
                <a:uFillTx/>
                <a:latin typeface="Arial"/>
                <a:hlinkClick r:id="rId2"/>
              </a:rPr>
              <a:t> NRW § 43</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undsätzlich</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 Schülerin oder der Schüler kann nur zeitlich befristet gem. </a:t>
            </a:r>
            <a:r>
              <a:rPr b="0" lang="de-DE" sz="3200" spc="-1" strike="noStrike" u="sng">
                <a:solidFill>
                  <a:srgbClr val="009999"/>
                </a:solidFill>
                <a:uFillTx/>
                <a:latin typeface="Arial"/>
                <a:hlinkClick r:id="rId1"/>
              </a:rPr>
              <a:t>SchulG</a:t>
            </a:r>
            <a:r>
              <a:rPr b="0" lang="de-DE" sz="3200" spc="-1" strike="noStrike" u="sng">
                <a:solidFill>
                  <a:srgbClr val="009999"/>
                </a:solidFill>
                <a:uFillTx/>
                <a:latin typeface="Arial"/>
                <a:hlinkClick r:id="rId2"/>
              </a:rPr>
              <a:t> NRW § 43</a:t>
            </a:r>
            <a:r>
              <a:rPr b="0" lang="de-DE" sz="3200" spc="-1" strike="noStrike">
                <a:solidFill>
                  <a:srgbClr val="000000"/>
                </a:solidFill>
                <a:latin typeface="Arial"/>
              </a:rPr>
              <a:t> vom Unterricht beurlaubt oder von der Teilnahme an einzelnen Unterrichts- oder Schulveranstaltungen befreit wer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schuldigung/ Benachrichtigung bei Schulversäumnis</a:t>
            </a:r>
            <a:br>
              <a:rPr sz="3200"/>
            </a:b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t eine Schülerin oder ein Schüler durch Krankheit oder aus anderen nicht vorhersehbaren Gründen verhindert, die Schule zu besuchen, so benachrichtigen die Eltern </a:t>
            </a:r>
            <a:r>
              <a:rPr b="1" lang="en-US" sz="3600" spc="-1" strike="noStrike" u="sng">
                <a:solidFill>
                  <a:srgbClr val="000000"/>
                </a:solidFill>
                <a:uFillTx/>
                <a:latin typeface="Arial"/>
              </a:rPr>
              <a:t>unverzüglich</a:t>
            </a:r>
            <a:r>
              <a:rPr b="0" lang="en-US" sz="3600" spc="-1" strike="noStrike">
                <a:solidFill>
                  <a:srgbClr val="000000"/>
                </a:solidFill>
                <a:latin typeface="Arial"/>
              </a:rPr>
              <a:t> die Schule und teilen schriftlich den Grund für das Schulversäumnis mit.</a:t>
            </a:r>
            <a:endParaRPr b="0" lang="en-US" sz="3600" spc="-1" strike="noStrike">
              <a:solidFill>
                <a:srgbClr val="000000"/>
              </a:solidFill>
              <a:latin typeface="Arial"/>
            </a:endParaRPr>
          </a:p>
          <a:p>
            <a:pPr marL="31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schuldigung/ Benachrichtigung bei Schulversäumni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a:t>
            </a:r>
            <a:r>
              <a:rPr b="1" lang="de-DE" sz="2400" spc="-1" strike="noStrike">
                <a:solidFill>
                  <a:srgbClr val="000000"/>
                </a:solidFill>
                <a:latin typeface="Arial"/>
              </a:rPr>
              <a:t>begründeten Zweifeln</a:t>
            </a:r>
            <a:r>
              <a:rPr b="0" lang="de-DE" sz="2400" spc="-1" strike="noStrike">
                <a:solidFill>
                  <a:srgbClr val="000000"/>
                </a:solidFill>
                <a:latin typeface="Arial"/>
              </a:rPr>
              <a:t> (d.h. nicht automatisch z.B. nach 2 Tagen), ob Unterricht aus gesundheitlichen Gründen versäumt wird, kann die Schule von den Eltern ein ärztliches Attest verlangen und in besonderen Fällen ein schulärztliches oder amtsärztliches Gutachten einholen." </a:t>
            </a:r>
            <a:r>
              <a:rPr b="0" lang="de-DE" sz="2400" spc="-1" strike="noStrike" u="sng">
                <a:solidFill>
                  <a:srgbClr val="009999"/>
                </a:solidFill>
                <a:uFillTx/>
                <a:latin typeface="Arial"/>
                <a:hlinkClick r:id="rId1"/>
              </a:rPr>
              <a:t>(</a:t>
            </a:r>
            <a:r>
              <a:rPr b="0" lang="de-DE" sz="2400" spc="-1" strike="noStrike" u="sng">
                <a:solidFill>
                  <a:srgbClr val="009999"/>
                </a:solidFill>
                <a:uFillTx/>
                <a:latin typeface="Arial"/>
                <a:hlinkClick r:id="rId2"/>
              </a:rPr>
              <a:t>SchulG</a:t>
            </a:r>
            <a:r>
              <a:rPr b="0" lang="de-DE" sz="2400" spc="-1" strike="noStrike" u="sng">
                <a:solidFill>
                  <a:srgbClr val="009999"/>
                </a:solidFill>
                <a:uFillTx/>
                <a:latin typeface="Arial"/>
                <a:hlinkClick r:id="rId3"/>
              </a:rPr>
              <a:t> NRW § 41)</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htung! Die damals durch die Ascho (Allgemeine Schulordung von 2003) formulierte 2 Tagesregel (d.h. Meldung bei der Schule spätestens am zweiten Tag) ist veraltet.Die Eltern haben</a:t>
            </a:r>
            <a:r>
              <a:rPr b="1" lang="de-DE" sz="2400" spc="-1" strike="noStrike">
                <a:solidFill>
                  <a:srgbClr val="000000"/>
                </a:solidFill>
                <a:latin typeface="Arial"/>
              </a:rPr>
              <a:t>unverzüglich</a:t>
            </a:r>
            <a:r>
              <a:rPr b="0" lang="de-DE" sz="2400" spc="-1" strike="noStrike">
                <a:solidFill>
                  <a:srgbClr val="000000"/>
                </a:solidFill>
                <a:latin typeface="Arial"/>
              </a:rPr>
              <a:t> die Schule zu benachrichtig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schuldigung/ Benachrichtigung bei Schulversäumnis</a:t>
            </a:r>
            <a:br>
              <a:rPr sz="3200"/>
            </a:b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 </a:t>
            </a:r>
            <a:r>
              <a:rPr b="0" lang="de-DE" sz="2800" spc="-1" strike="noStrike" u="sng">
                <a:solidFill>
                  <a:srgbClr val="000000"/>
                </a:solidFill>
                <a:uFillTx/>
                <a:latin typeface="Arial"/>
              </a:rPr>
              <a:t>ärztliches Attest</a:t>
            </a:r>
            <a:r>
              <a:rPr b="0" lang="de-DE" sz="2800" spc="-1" strike="noStrike">
                <a:solidFill>
                  <a:srgbClr val="000000"/>
                </a:solidFill>
                <a:latin typeface="Arial"/>
              </a:rPr>
              <a:t> ist in der Regel nur dann anzufordern, wenn Anhaltspunkte dafür vorliegen, dass gesundheitliche Gründe nur vorgeschoben werd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 genügt die Vorlage eines hausärztlichen Attestes. Wenn die Schule in besonderen Fällen ein schul- oder amtsärztliches Gutachten einholt (z. B. bei besonders häufigem, mit Krankheit begründetem Fehlen oder außergewöhnlicher Dauer der Krankheit), trägt die Schule die Kosten des Gutachtens.</a:t>
            </a:r>
            <a:r>
              <a:rPr b="0" lang="de-DE" sz="2800" spc="-1" strike="noStrike" u="sng">
                <a:solidFill>
                  <a:srgbClr val="009999"/>
                </a:solidFill>
                <a:uFillTx/>
                <a:latin typeface="Arial"/>
                <a:hlinkClick r:id="rId1"/>
              </a:rPr>
              <a:t>Erlass</a:t>
            </a:r>
            <a:r>
              <a:rPr b="0" lang="de-DE" sz="2800" spc="-1" strike="noStrike" u="sng">
                <a:solidFill>
                  <a:srgbClr val="009999"/>
                </a:solidFill>
                <a:uFillTx/>
                <a:latin typeface="Arial"/>
                <a:hlinkClick r:id="rId2"/>
              </a:rPr>
              <a:t> Schulversäumn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24000" y="260280"/>
            <a:ext cx="8640720" cy="61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50920" y="549360"/>
            <a:ext cx="8518320" cy="49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kumentation</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assenbuch /Klassenlis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zeit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ünde für Fehlzeit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Schriftliche Benachrichtigungen der Elter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Gesprächsnotizen bei telefonischen bzw. mündlichen</a:t>
            </a:r>
            <a:r>
              <a:rPr b="0" lang="de-DE" sz="2000" spc="-1" strike="noStrike">
                <a:solidFill>
                  <a:srgbClr val="000000"/>
                </a:solidFill>
                <a:latin typeface="Arial"/>
              </a:rPr>
              <a:t> Entschuldigungen/ sms u.a. mit Datum Uhrze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Schriftlicher Vereinbarungen und Beratung mit Elter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Die Dokumentation und Überwachung der Schulpflicht gehört zu den dienstlichen Pflicht jedes Lehrers (§ 10 ADO). Nur mit entsprechend dokumentierten Fehlzeiten und dokumentierter Beratung der Eltern und des Kindes ist z.B. eine Ordnungsverfügung möglich und sinnvo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0T06:09:17Z</dcterms:created>
  <dc:creator>Schulverwaltung</dc:creator>
  <dc:description/>
  <dc:language>en-US</dc:language>
  <cp:lastModifiedBy>Schulverwaltung</cp:lastModifiedBy>
  <dcterms:modified xsi:type="dcterms:W3CDTF">2013-10-10T09:59:16Z</dcterms:modified>
  <cp:revision>4</cp:revision>
  <dc:subject/>
  <dc:title>Schulversäumnis</dc:title>
</cp:coreProperties>
</file>